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png" ContentType="image/png"/>
  <Override PartName="/ppt/media/image13.jpeg" ContentType="image/jpeg"/>
  <Override PartName="/ppt/media/applause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7E8D-5214-494D-A7FD-FDE726E10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6FFF-CB57-4A1C-8919-7560D521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37AB-75E9-407C-9700-6D8092BC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47D-95D1-44E1-8A26-89DB8BFD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52B-B234-4317-81E4-8162CD4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0E3-D782-46EE-A170-62A40BCA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3BC-9FB0-4A7F-AA79-E72E6343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D02-A876-44B9-81FC-AAC9FF62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B125-ACB6-421B-A39F-47DDDF3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AAEA-787D-4A19-A97B-3D5ACB5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F2B5-594E-4C8F-81F6-1F48C521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306-F982-41CD-9A35-227814B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FCB1-86B7-46EC-8EB9-D98D82E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4BA0-12D7-4ADE-B220-9CDFAA6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58A-545E-4359-932A-51996479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D4B8-36CD-485A-8551-751A7CE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A0C-7567-4535-8C6C-389C1657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6FB3-2046-41E8-BED0-2D4420D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A8B3-F2B1-47BD-9B8A-F381D87A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B579-EB00-406B-92B2-A46CFFB5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2AE-060D-4725-9C98-9F1DEC6E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6EF-22FB-4B54-8AA0-38EF26C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B4F-823A-41B1-93B8-7D95AE6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49F-7BF1-444E-B4A1-79A8182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27F-947B-4837-BEBE-F25FEB5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682-FE93-4834-8809-E5E26B5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C32-3F56-4B94-A578-42AB58C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BFD-6EA5-4164-8E91-EA6BE3DE33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62B-E40D-44B5-AABA-95F8309EDA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" Target="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15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imagesCA8XS3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2012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PIRATORY SYSTEM: Structures and Function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cienc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She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. Sny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s.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409760" y="1106640"/>
            <a:ext cx="6629400" cy="514188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1.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4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rga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lveol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singular: alveolus): small air sacs that look like bunches of grapes, surrounded by capillaries, where ga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chang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Content Placeholder 3" descr="lung.jpg"/>
          <p:cNvPicPr/>
          <p:nvPr/>
        </p:nvPicPr>
        <p:blipFill>
          <a:blip r:embed="rId2"/>
          <a:stretch/>
        </p:blipFill>
        <p:spPr>
          <a:xfrm>
            <a:off x="5405400" y="4495680"/>
            <a:ext cx="2367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of The Lung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0" name="Content Placeholder 3" descr="lung.jpg"/>
          <p:cNvPicPr/>
          <p:nvPr/>
        </p:nvPicPr>
        <p:blipFill>
          <a:blip r:embed="rId2"/>
          <a:stretch/>
        </p:blipFill>
        <p:spPr>
          <a:xfrm>
            <a:off x="1523880" y="13716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atomy of Alveoli and Capillar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1.10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rcRect l="59830" t="0" r="0" b="7611"/>
          <a:stretch/>
        </p:blipFill>
        <p:spPr>
          <a:xfrm>
            <a:off x="3048120" y="1600200"/>
            <a:ext cx="4295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air enters an alveolu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sses through the capillary wall into the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bon dioxide and water pass from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loo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to the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ge surfac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alveoli allows the lungs to absorb a lot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1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914400" y="1100160"/>
            <a:ext cx="75819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’s test our mind about this subtop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ready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es , click the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not , click the 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utterfly.jpg"/>
          <p:cNvPicPr/>
          <p:nvPr/>
        </p:nvPicPr>
        <p:blipFill>
          <a:blip r:embed="rId2"/>
          <a:stretch/>
        </p:blipFill>
        <p:spPr>
          <a:xfrm>
            <a:off x="6324480" y="46483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mimipunk-tux-cartoon-182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NOT the respiratory or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Bronc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Alve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 DON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upbutton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RRY , THAT IS NOT THE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tryagain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respiration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iration is the chemical process whereby energy is released from glucose or other simple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* Respiration (also known as cellular respiration) is different from 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3"/>
          <p:cNvSpPr/>
          <p:nvPr/>
        </p:nvSpPr>
        <p:spPr>
          <a:xfrm>
            <a:off x="0" y="441972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+ Oxygen       Energy +Carbon Dioxide +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3200400" y="50288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304920" y="5334120"/>
            <a:ext cx="1143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diges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905120" y="5334120"/>
            <a:ext cx="1295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44792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w chart above shows the route of air through the body. Where does the air flow after the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Bronch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iaphra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Rib c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Bronc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7"/>
          <p:cNvSpPr/>
          <p:nvPr/>
        </p:nvSpPr>
        <p:spPr>
          <a:xfrm>
            <a:off x="1066680" y="533520"/>
            <a:ext cx="1676520" cy="914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8"/>
          <p:cNvSpPr/>
          <p:nvPr/>
        </p:nvSpPr>
        <p:spPr>
          <a:xfrm>
            <a:off x="2895480" y="533520"/>
            <a:ext cx="22860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Diagram 9" descr=""/>
          <p:cNvPicPr/>
          <p:nvPr/>
        </p:nvPicPr>
        <p:blipFill>
          <a:blip r:embed="rId2"/>
          <a:stretch/>
        </p:blipFill>
        <p:spPr>
          <a:xfrm>
            <a:off x="1749600" y="5479920"/>
            <a:ext cx="6102000" cy="420840"/>
          </a:xfrm>
          <a:prstGeom prst="rect">
            <a:avLst/>
          </a:prstGeom>
          <a:ln w="0">
            <a:noFill/>
          </a:ln>
        </p:spPr>
      </p:pic>
      <p:sp>
        <p:nvSpPr>
          <p:cNvPr id="172" name="Right Arrow 10"/>
          <p:cNvSpPr/>
          <p:nvPr/>
        </p:nvSpPr>
        <p:spPr>
          <a:xfrm>
            <a:off x="5257800" y="533520"/>
            <a:ext cx="1905120" cy="990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Arrow 11"/>
          <p:cNvSpPr/>
          <p:nvPr/>
        </p:nvSpPr>
        <p:spPr>
          <a:xfrm>
            <a:off x="7315200" y="533520"/>
            <a:ext cx="1523880" cy="990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ATULATIONS !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upbutton.jpg"/>
          <p:cNvPicPr/>
          <p:nvPr/>
        </p:nvPicPr>
        <p:blipFill>
          <a:blip r:embed="rId2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TRY AGAI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tryagain.jpg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 gas passes from the alveoli into the blood in the capill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Oxygen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ANSWER IS 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upbutton.jpg"/>
          <p:cNvPicPr/>
          <p:nvPr/>
        </p:nvPicPr>
        <p:blipFill>
          <a:blip r:embed="rId2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RRY, YOUR ANSWER IS NOT THE BEST ANSWER, MY D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tryagain.jpg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kids-spelling-thank-y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ath of Air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410080" cy="4976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5029200" y="2438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5105520" y="2971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2578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55627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5638680" y="5791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02" name="Picture 10" descr="gas exchange diagram.png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653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6"/>
          <p:cNvSpPr/>
          <p:nvPr/>
        </p:nvSpPr>
        <p:spPr>
          <a:xfrm>
            <a:off x="6705720" y="17524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572000" y="35812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6095880" y="45720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4495680" y="50292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veo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nctions of the Respiratory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kes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oves carbon dioxid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rom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808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 of 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Diagram 3" descr=""/>
          <p:cNvPicPr/>
          <p:nvPr/>
        </p:nvPicPr>
        <p:blipFill>
          <a:blip r:embed="rId2"/>
          <a:stretch/>
        </p:blipFill>
        <p:spPr>
          <a:xfrm>
            <a:off x="549360" y="1109520"/>
            <a:ext cx="8143920" cy="5370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7" descr="rs.jpg"/>
          <p:cNvPicPr/>
          <p:nvPr/>
        </p:nvPicPr>
        <p:blipFill>
          <a:blip r:embed="rId2"/>
          <a:stretch/>
        </p:blipFill>
        <p:spPr>
          <a:xfrm>
            <a:off x="1371600" y="762120"/>
            <a:ext cx="6629400" cy="533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1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n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us moistens air and trap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iny hairlike extensions that sweep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ucu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to the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rynx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roat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s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u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d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che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Windpipe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ned with cilia and mucus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lea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moiste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tilage rings keep airwa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rcRect l="0" t="1639" r="0" b="5761"/>
          <a:stretch/>
        </p:blipFill>
        <p:spPr>
          <a:xfrm>
            <a:off x="2666880" y="4083120"/>
            <a:ext cx="38862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nchi (singular: bronchus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ssages that direct air in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f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u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Left l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ght bronchu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→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ght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vide into smaller tubes, lik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anch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143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3:42Z</dcterms:created>
  <dc:creator>Key's Space</dc:creator>
  <dc:description/>
  <dc:language>en-US</dc:language>
  <cp:lastModifiedBy>Howard County Administrator</cp:lastModifiedBy>
  <dcterms:modified xsi:type="dcterms:W3CDTF">2014-02-11T14:43:5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